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9FB01-C25B-4B0F-BC38-BB4408571B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D05AEE-8A9A-4B0B-AD44-696E730054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56CAE8-4EEB-48FE-85A9-9C65E00080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5BA331-9E20-477F-8CEE-7AD2E554CF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068165-9707-4EB9-974F-57A9C6946B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A7A2CE-75D3-4FF6-8D33-CA88E08DE3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5EBBFF-FF1F-475B-86AF-68E6AE4319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8DF892-043B-4A2D-BC48-96A75034F9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A87F13-3F1F-4B43-9C28-43673FE9C3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DFB9A0-0F2F-4E92-B7C0-161FC4DBDC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D69D42-DFAE-4E03-AC39-5722FE1FE8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434012-E43E-4DF6-8F37-228AEAB2B6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36B177-2B86-43D6-B107-D2C7469501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E8525-7BA1-4AD7-B2FC-24A01250E798}" type="datetime3">
              <a:rPr b="0" lang="en-US" sz="1400" spc="-1" strike="noStrike">
                <a:solidFill>
                  <a:srgbClr val="ffffff"/>
                </a:solidFill>
                <a:latin typeface="Times New Roman"/>
              </a:rPr>
              <a:t>July 28,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5EBC9-ABBC-4496-8368-CEEA5CA734D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E0CEFFEB-3412-49F2-95C9-BA076FA6058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E21E8342-1C33-4508-9980-615A3F8207E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8C22876E-D497-4DE9-8BDF-0205BB71005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A21B2FA3-AEF3-483D-92C2-F5383D14CD1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23A182F7-A6CE-4FB6-B14D-5B7882520DF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31B3F5A2-243F-4348-8B9A-6B7AAD9BF5C5}"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563AEAFC-4B7D-4F4E-95C9-ED1A2650139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BD7B9926-6D45-4336-B84A-D386C916887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11A92C79-BE42-4B4A-9D3A-08C47BC5E92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ED2161CA-E80F-4422-B3D0-522686FF69D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97C8182E-2725-48A6-A26A-FB32DD3ED51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99131A56-0927-40F7-AC9F-AE3A042660E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03AD5B00-7CC6-4242-868E-BBF127F08BA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9517266D-64D4-40FD-884E-3098F726B15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